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1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3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47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4C37-7A82-49DD-A430-0926BCC0B31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-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骨牵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B91E-859C-4C7A-A51F-630C7ADC892A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05C07-12E9-4F78-8913-C474A804C4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2E513-AAE8-4039-B928-8539F055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C156C-9AD3-47A2-A69C-FFCE9EBB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A7B3A-7480-4117-A64B-C10CC64647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E916D-AF08-4371-8EBE-EC46AAEF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7771F-CD1C-463F-91EB-C3163864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4B4A7-3FFF-4B82-8987-556646F1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AF9D4-38C8-4EE8-A050-F5203BE09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A07CE-36A3-4237-BF74-368194DF2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D9559-EE95-4836-8E88-C2CD9CEA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CE7E0-B036-4308-82B3-69B75880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44810-530E-4421-97CE-290C8106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6671-6658-4AF1-A85B-CFA001851D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二章 骨折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管、周围神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脂肪栓塞综合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fat embolism syndrom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2" name="图片 8" descr="两桌法"/>
          <p:cNvPicPr/>
          <p:nvPr/>
        </p:nvPicPr>
        <p:blipFill>
          <a:blip r:embed="rId1"/>
          <a:stretch/>
        </p:blipFill>
        <p:spPr>
          <a:xfrm>
            <a:off x="468360" y="2376360"/>
            <a:ext cx="4174920" cy="220500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9" descr="悬吊法"/>
          <p:cNvPicPr/>
          <p:nvPr/>
        </p:nvPicPr>
        <p:blipFill>
          <a:blip r:embed="rId2"/>
          <a:stretch/>
        </p:blipFill>
        <p:spPr>
          <a:xfrm>
            <a:off x="5148360" y="981000"/>
            <a:ext cx="3824280" cy="3751200"/>
          </a:xfrm>
          <a:prstGeom prst="rect">
            <a:avLst/>
          </a:prstGeom>
          <a:ln w="0">
            <a:noFill/>
          </a:ln>
        </p:spPr>
      </p:pic>
      <p:sp>
        <p:nvSpPr>
          <p:cNvPr id="424" name="矩形 4"/>
          <p:cNvSpPr/>
          <p:nvPr/>
        </p:nvSpPr>
        <p:spPr>
          <a:xfrm>
            <a:off x="1116000" y="5075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桌法复位法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矩形 5"/>
          <p:cNvSpPr/>
          <p:nvPr/>
        </p:nvSpPr>
        <p:spPr>
          <a:xfrm>
            <a:off x="6270120" y="5075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双踝悬吊复位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沐浴、如厕）自理缺陷 与脊柱骨折后医嘱制动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长期卧床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脊髓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脊髓损伤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髓损伤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pinal cord inju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脊柱骨折脱位最严重的并发症，多发生在颈椎下部和胸腰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、腰段骨折合并脊髓损伤，可出现受伤平面以下的感觉、运动、反射及括约肌功能完全或部分丧失，临床上称为截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rapleg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全丧失时称完全截瘫，部分丧失时称不完全截瘫。颈椎骨折合并颈髓损伤，可出现四肢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uadripleg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脊髓损伤时，肋间肌完全麻痹，胸式呼吸消失。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时，由于膈神经中枢（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受影响腹式呼吸也消失，患者往往在现场即已死亡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时，患者常在早期就因呼吸衰竭而死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脊柱骨折部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脊柱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颌枕带牵引或持续颅骨牵引适当固定脊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脊髓水肿和继发性损害，如静脉滴注地塞米松、静脉滴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甘露醇、甲泼尼龙冲击疗法或高压氧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，可以解除对脊髓的压迫和恢复脊柱的稳定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呼吸道无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肌肉瘫痪、无力咳嗽、痰液黏稠等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高位颈髓损伤自主神经系统功能紊乱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 与脊髓损伤导致排尿肌无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筋膜室综合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compartment syndrome)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 与肢体感觉异常、活动障碍导致皮肤长期受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 与脊髓神经损伤、液体摄入不足、活动减少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与受伤后身体活动受限、肌肉萎缩、肢体变形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用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坠积性肺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翻身叩背、辅助咳嗽排痰、吸痰、气管切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尿、人工排尿、多饮水、尿培养、遵医嘱使用抗菌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食富含膳食纤维的食物、新鲜水果和蔬菜，多饮水；指导或协助患者在饭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从右至左沿大肠行走方向做腹部按摩，以刺激肠蠕动；顽固性便秘者，遵医嘱给予灌肠或缓泻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与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、翻身、喂饭、喂水、喂药、使用便器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腔、皮肤、头发、外阴护理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挤压排尿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和肌肉功能锻炼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轮椅或其他助行器具的方法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和家属若发现皮肤受压发红和肿胀、体温过高、呼吸困难、痰液黏稠不易咳出、尿液混浊或粪便排出困难等情况，应及时与医院取得联系，以利及早诊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盆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pelv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一种严重的损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,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由压砸、碾轧、撞击或坠落等暴力所致，也可因肌肉剧烈收缩而发生撕脱骨折，多见于交通事故或塌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和体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部及下腹部疼痛，局部肿胀，压痛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会阴部瘀斑是耻骨和坐骨骨折的特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从两侧髂嵴部位向内挤压或向外分离骨盆环，骨折处均产生疼痛，称为骨盆挤压分离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移位时可出现患侧肢体缩短，双下肢长度不对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896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后血肿：患者常有休克，并伴腹痛、腹胀、肠鸣减弱及腹肌紧张等腹膜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内脏损伤：实质性脏器损伤表现为腹痛和失血性休克，空腔脏器损伤可有急性弥漫性腹膜炎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血性肌挛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血性骨坏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性骨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创伤性关节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896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尿道或膀胱损伤：患者可有排尿困难、血尿等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损伤：较少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损伤：主要是腰骶神经丛和坐骨神经损伤，患者可出现相应的临床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确定骨折的类型、程度及移位情况等，必要时可应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诊断是否合并盆腔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受伤的时间、原因和部位，受伤时的体位，伤后急救、搬运和运送方式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床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与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、进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长期卧床，局部组织受压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腹膜后血肿、尿道或膀胱损伤、直肠损伤、神经损伤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变化，了解患者有无腹痛、腹胀、血压下降、排尿异常、肌力或感觉改变等，出现异常及时通知医生处理，并观察处理后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功能锻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15696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创伤性骨折病因主要为直接暴力、间接暴力和积累性劳损。骨骼病变可引起病理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损伤严重的骨折患者会有休克和发热等全身表现。骨折局部一般表现包括局部疼痛和压痛、肿胀或瘀斑、功能障碍；局部专有体征包括畸形、反常活动、骨擦音或骨擦感。骨折后可出现多种早期并发症和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复位、固定、功能锻炼，三者有机联系，缺一不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应掌握现场急救的方法；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主要包括病情观察、心理护理、控制疼痛、生活护理、小夹板固定的护理、石膏绷带固定的护理、牵引的护理、手术切开复位内固定的术前护理等；术后护理重点是保持适当体位、病情观察、防治感染、石膏绷带固定的护理等。功能锻炼是骨折患者康复的重要手段，应做好相关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多因间接暴力造成，少数也可由直接暴力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骨折时患者的头多向患侧偏斜，颌部转向健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肱骨髁上骨折时应警惕前臂正中神经和肱动脉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典型体征是“餐叉”畸形和“枪刺刀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多因间接暴力造成，少数也可由直接暴力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颈骨折时患者髋部疼痛，不敢站立或行走，外展骨折患者此表现可不典型，内收骨折患者可有下肢内收、缩短、外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干骨折时可合并腘动静脉损伤、坐骨神经损伤以及失血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胫腓骨骨折容易形成开放性骨折，可并发骨筋膜室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主要为手法复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字绷带、小夹板、石膏或牵引固定，功能锻炼；手术治疗主要为内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包括心理护理、严密观察病情、保持正确体位、生活护理、牵引护理和指导患者进行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多由间接暴力引起，少数由直接暴力引起。脊髓损伤主要是脊柱骨折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时可有局部疼痛、肿胀和活动受限等表现，也可出现腹胀、肠蠕动减弱等。脊髓损伤患者可出现截瘫和四肢瘫，颈髓损伤时患者可能呼吸功能受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抢救生命。颈椎骨折时，轻者可用颌枕带卧位牵引复位或骨牵引复位，重者手术治疗。胸腰椎骨折时，可采取脊柱过伸位复位、两桌复位法或双踝悬吊复位法，严重者需手术治疗。脊髓损伤时主要是适当固定颈部、减轻脊髓水肿和继发性损害、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的护理重点是心理护理、病情观察、安置卧位、生活护理和康复训练。脊髓损伤的护理重点是心理护理、生活护理、遵医嘱用药、病情观察、预防并发症、体位与功能锻炼和做好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盆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有强大暴力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部及下腹部疼痛。会阴部瘀斑是耻骨和坐骨骨折的特有体征。骨盆挤压分离试验阳性。部分患者肢体长度不对称。骨盆骨折时常伴严重合并症，且常较骨折本身严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对休克及各种危及生命的合并症进行处理，其次再处理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生活护理、牵引护理、并发症护理、指导功能锻炼和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的时间、原因（包括直接暴力、间接暴力和积累性劳损）、经过（包括暴力的大小、方向、性质，受伤时身体的姿势，伤后处理情况等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愈合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肿炎症机化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始骨痂形成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痂改造塑形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响骨折愈合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因素、局部因素、医源性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临床愈合标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reduction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通过手法或手术使骨折部位恢复到正常或接近正常的解剖关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标准：解剖复位、功能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方法：手法复位、手术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夹板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牵引：皮牵引、骨牵引、兜带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固定器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5" name="图片 4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4200480" cy="316836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30" descr=""/>
          <p:cNvPicPr/>
          <p:nvPr/>
        </p:nvPicPr>
        <p:blipFill>
          <a:blip r:embed="rId2"/>
          <a:stretch/>
        </p:blipFill>
        <p:spPr>
          <a:xfrm>
            <a:off x="4788000" y="2278080"/>
            <a:ext cx="3865320" cy="93492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31" descr=""/>
          <p:cNvPicPr/>
          <p:nvPr/>
        </p:nvPicPr>
        <p:blipFill>
          <a:blip r:embed="rId3"/>
          <a:stretch/>
        </p:blipFill>
        <p:spPr>
          <a:xfrm>
            <a:off x="5003640" y="3348000"/>
            <a:ext cx="3529080" cy="1376280"/>
          </a:xfrm>
          <a:prstGeom prst="rect">
            <a:avLst/>
          </a:prstGeom>
          <a:ln w="0">
            <a:noFill/>
          </a:ln>
        </p:spPr>
      </p:pic>
      <p:sp>
        <p:nvSpPr>
          <p:cNvPr id="168" name="矩形 4"/>
          <p:cNvSpPr/>
          <p:nvPr/>
        </p:nvSpPr>
        <p:spPr>
          <a:xfrm>
            <a:off x="1582920" y="500364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胶布条粘贴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矩形 5"/>
          <p:cNvSpPr/>
          <p:nvPr/>
        </p:nvSpPr>
        <p:spPr>
          <a:xfrm>
            <a:off x="5687280" y="493236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乳胶海绵条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矩形 6"/>
          <p:cNvSpPr/>
          <p:nvPr/>
        </p:nvSpPr>
        <p:spPr>
          <a:xfrm>
            <a:off x="3930480" y="5580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皮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骨折、常见四肢骨折、骨盆骨折的常见原因及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骨折、常见四肢骨折、脊柱骨折、脊髓损伤及骨盆骨折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骨折常见的早期和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举例说明常见四肢骨折患者患肢功能锻炼方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骨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3" name="图片 4" descr="说明: 颅骨牵引"/>
          <p:cNvPicPr/>
          <p:nvPr/>
        </p:nvPicPr>
        <p:blipFill>
          <a:blip r:embed="rId1"/>
          <a:stretch/>
        </p:blipFill>
        <p:spPr>
          <a:xfrm>
            <a:off x="684360" y="1125360"/>
            <a:ext cx="2808000" cy="2492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6" descr="说明: 尺骨鹰嘴牵引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5435640" y="1195560"/>
            <a:ext cx="2232000" cy="2304720"/>
          </a:xfrm>
          <a:prstGeom prst="rect">
            <a:avLst/>
          </a:prstGeom>
          <a:ln w="0">
            <a:noFill/>
          </a:ln>
        </p:spPr>
      </p:pic>
      <p:sp>
        <p:nvSpPr>
          <p:cNvPr id="175" name="矩形 4"/>
          <p:cNvSpPr/>
          <p:nvPr/>
        </p:nvSpPr>
        <p:spPr>
          <a:xfrm>
            <a:off x="1243440" y="3716280"/>
            <a:ext cx="17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颈椎骨折颅骨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5"/>
          <p:cNvSpPr/>
          <p:nvPr/>
        </p:nvSpPr>
        <p:spPr>
          <a:xfrm>
            <a:off x="5559840" y="3500280"/>
            <a:ext cx="21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肱骨干骨折尺骨鹰嘴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7" name="图片 5" descr="说明: 骨牵引"/>
          <p:cNvPicPr/>
          <p:nvPr/>
        </p:nvPicPr>
        <p:blipFill>
          <a:blip r:embed="rId3"/>
          <a:stretch/>
        </p:blipFill>
        <p:spPr>
          <a:xfrm>
            <a:off x="684360" y="4292640"/>
            <a:ext cx="3627360" cy="1584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3" descr="说明: 图38-5  骨牵引-4"/>
          <p:cNvPicPr/>
          <p:nvPr/>
        </p:nvPicPr>
        <p:blipFill>
          <a:blip r:embed="rId4"/>
          <a:stretch/>
        </p:blipFill>
        <p:spPr>
          <a:xfrm>
            <a:off x="4905360" y="3860640"/>
            <a:ext cx="3411720" cy="1973520"/>
          </a:xfrm>
          <a:prstGeom prst="rect">
            <a:avLst/>
          </a:prstGeom>
          <a:ln w="0">
            <a:noFill/>
          </a:ln>
        </p:spPr>
      </p:pic>
      <p:sp>
        <p:nvSpPr>
          <p:cNvPr id="179" name="矩形 6"/>
          <p:cNvSpPr/>
          <p:nvPr/>
        </p:nvSpPr>
        <p:spPr>
          <a:xfrm>
            <a:off x="1312200" y="5796000"/>
            <a:ext cx="21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干骨折胫骨结节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7"/>
          <p:cNvSpPr/>
          <p:nvPr/>
        </p:nvSpPr>
        <p:spPr>
          <a:xfrm>
            <a:off x="5367240" y="5796000"/>
            <a:ext cx="261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胫腓骨干骨折跟骨结节螺旋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矩形 8"/>
          <p:cNvSpPr/>
          <p:nvPr/>
        </p:nvSpPr>
        <p:spPr>
          <a:xfrm>
            <a:off x="3930480" y="6227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4" descr="说明: 颌枕带牵引"/>
          <p:cNvPicPr/>
          <p:nvPr/>
        </p:nvPicPr>
        <p:blipFill>
          <a:blip r:embed="rId1">
            <a:lum contrast="18000"/>
          </a:blip>
          <a:srcRect l="0" t="0" r="0" b="10107"/>
          <a:stretch/>
        </p:blipFill>
        <p:spPr>
          <a:xfrm>
            <a:off x="826920" y="1125360"/>
            <a:ext cx="1800360" cy="2586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说明: 腰椎牵引带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924360" y="1614600"/>
            <a:ext cx="4495680" cy="1757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37" descr="说明: 骨盆骨折骨盆带悬吊牵引"/>
          <p:cNvPicPr/>
          <p:nvPr/>
        </p:nvPicPr>
        <p:blipFill>
          <a:blip r:embed="rId3"/>
          <a:stretch/>
        </p:blipFill>
        <p:spPr>
          <a:xfrm>
            <a:off x="3132000" y="3371760"/>
            <a:ext cx="3719520" cy="2651040"/>
          </a:xfrm>
          <a:prstGeom prst="rect">
            <a:avLst/>
          </a:prstGeom>
          <a:ln w="0">
            <a:noFill/>
          </a:ln>
        </p:spPr>
      </p:pic>
      <p:sp>
        <p:nvSpPr>
          <p:cNvPr id="187" name="矩形 4"/>
          <p:cNvSpPr/>
          <p:nvPr/>
        </p:nvSpPr>
        <p:spPr>
          <a:xfrm>
            <a:off x="1031760" y="3635280"/>
            <a:ext cx="13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颌枕带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矩形 5"/>
          <p:cNvSpPr/>
          <p:nvPr/>
        </p:nvSpPr>
        <p:spPr>
          <a:xfrm>
            <a:off x="5226480" y="2771640"/>
            <a:ext cx="17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骨盆牵引带牵引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矩形 6"/>
          <p:cNvSpPr/>
          <p:nvPr/>
        </p:nvSpPr>
        <p:spPr>
          <a:xfrm>
            <a:off x="4190400" y="558000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骨盆吊兜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矩形 7"/>
          <p:cNvSpPr/>
          <p:nvPr/>
        </p:nvSpPr>
        <p:spPr>
          <a:xfrm>
            <a:off x="3248640" y="6083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兜带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138" descr="说明: 图38-7  胫腓骨干骨折经皮穿针外固定器固定"/>
          <p:cNvPicPr/>
          <p:nvPr/>
        </p:nvPicPr>
        <p:blipFill>
          <a:blip r:embed="rId1"/>
          <a:stretch/>
        </p:blipFill>
        <p:spPr>
          <a:xfrm>
            <a:off x="3132000" y="1125360"/>
            <a:ext cx="2671920" cy="4680000"/>
          </a:xfrm>
          <a:prstGeom prst="rect">
            <a:avLst/>
          </a:prstGeom>
          <a:ln w="0">
            <a:noFill/>
          </a:ln>
        </p:spPr>
      </p:pic>
      <p:sp>
        <p:nvSpPr>
          <p:cNvPr id="194" name="矩形 4"/>
          <p:cNvSpPr/>
          <p:nvPr/>
        </p:nvSpPr>
        <p:spPr>
          <a:xfrm>
            <a:off x="2286000" y="5805360"/>
            <a:ext cx="48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胫腓骨干骨折经皮穿针外固定器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用于切开复位后的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优点：复位准确，固定可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缺点：手术损伤骨折周围软组织和骨膜，使局部血液循环破坏可影响骨折的愈合，手术使骨折开放，可能发生感染，多需二次手术去除内固定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论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" name="Picture 2" descr="图22-11股骨颈骨折加压螺丝钉内固定"/>
          <p:cNvPicPr/>
          <p:nvPr/>
        </p:nvPicPr>
        <p:blipFill>
          <a:blip r:embed="rId1"/>
          <a:stretch/>
        </p:blipFill>
        <p:spPr>
          <a:xfrm>
            <a:off x="6659640" y="1057320"/>
            <a:ext cx="1966680" cy="4135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图22-10内固定（A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68360" y="1049400"/>
            <a:ext cx="2489040" cy="4192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图22-10内固定（接骨钢板、螺丝钉固定）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3276720" y="1268280"/>
            <a:ext cx="2305080" cy="3713400"/>
          </a:xfrm>
          <a:prstGeom prst="rect">
            <a:avLst/>
          </a:prstGeom>
          <a:ln w="0">
            <a:noFill/>
          </a:ln>
        </p:spPr>
      </p:pic>
      <p:sp>
        <p:nvSpPr>
          <p:cNvPr id="203" name="矩形 4"/>
          <p:cNvSpPr/>
          <p:nvPr/>
        </p:nvSpPr>
        <p:spPr>
          <a:xfrm>
            <a:off x="1072080" y="515772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矩形 5"/>
          <p:cNvSpPr/>
          <p:nvPr/>
        </p:nvSpPr>
        <p:spPr>
          <a:xfrm>
            <a:off x="3966120" y="522936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矩形 6"/>
          <p:cNvSpPr/>
          <p:nvPr/>
        </p:nvSpPr>
        <p:spPr>
          <a:xfrm>
            <a:off x="7206120" y="501336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矩形 7"/>
          <p:cNvSpPr/>
          <p:nvPr/>
        </p:nvSpPr>
        <p:spPr>
          <a:xfrm>
            <a:off x="2704320" y="5877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内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矩形 2"/>
          <p:cNvSpPr/>
          <p:nvPr/>
        </p:nvSpPr>
        <p:spPr>
          <a:xfrm>
            <a:off x="5256360" y="544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干骨折髓内针固定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胫骨干骨折钢板、螺丝钉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颈骨折加压螺丝钉内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，功能锻炼以骨折部肌肉的等长舒缩运动为主，主要目的是促进伤肢血液循环，消除肿胀，防止肌肉萎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中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继续骨折部肌肉的主动舒缩运动外，还应进行骨折部上、下关节活动，逐渐扩大活动范围和力量。主要目的是防止肌肉萎缩和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此期应加强伤肢关节的主动活动和负重锻炼，增强肌力，克服挛缩，并可辅以物理治疗和外用药物熏洗，使关节活动范围和肌力逐渐恢复至正常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左侧桡骨远端伸直型骨折，拟行手法复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石膏绷带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复位固定后的护理重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 与软组织损伤、骨折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 与担心骨折影响正常学习、生活和工作及预后不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  与长期卧床、制动、畸形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  与长期卧床和使用外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休克、血管损伤、周围神经损伤、内脏损伤、脊髓损伤、脂肪栓塞、骨筋膜室综合征、感染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血和包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全转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夹板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后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快干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患肢皮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除石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有效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后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内固定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者应按急症手术做好术前准备，并遵医嘱给予抗菌药物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A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休克者应先抗休克，休克纠正后再行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限期或择期手术者按手术前常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适当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2276640"/>
            <a:ext cx="777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锁骨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骨的完整性或连续性中断，是人体运动系统的一种常见损伤，可单发，也可与其他部位的损伤合并存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锁骨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clavicl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多发生于儿童及青壮年。间接暴力造成骨折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肿胀，压痛或有畸形，可能摸到骨折断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肩下沉并向前内倾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幼儿多为青枝骨折，因皮下脂肪丰满，畸形不明显；病儿不能自述疼痛位置，可只表现为啼哭；头多向患侧偏斜，颌部转向健侧，此为其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类型及断端移位方向，有合并伤者必要时加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受伤原因和急救过程，了解是否有影响愈合的因素，如年龄大小、是否缺钙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成人无移位骨折或幼儿青枝骨折，仅用三角巾悬吊患侧上肢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，外用跌打损伤药物即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骨折合并神经或血管损伤、开放性骨折、陈旧性骨折不愈合或畸形愈合影响功能者，可采用手术切开复位钢针或钢板内固定，术后三角巾悬吊患肢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锁骨骨折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肌萎缩、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134100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固定后，应经常检查固定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应经常检查固定是否可靠，及时调整固定的松紧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后站立时保持挺胸提肩，卧位时应去枕仰卧于硬板床上，两肩胛间垫一窄枕以使两肩后伸外展，维持良好的复位和固定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105264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早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）可练习手腕、肘关节的各种活动；中期做肩部后伸运动；后期可逐渐做肩关节的全方位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2276640"/>
            <a:ext cx="727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肱骨髁上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肱骨髁上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pracondylar fracture of humer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肱骨远端内外髁上方的骨折。多见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儿童。多由间接暴力所致，根据暴力来源和移位方向，可分为伸直型和屈曲型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端是否与外界相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骨折和开放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的程度及形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完全骨折和完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端稳定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稳定性骨折和不稳定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时间的长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新鲜骨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以内）和陈旧骨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以上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处疼痛、肿胀、压痛，伤侧肘关节功能丧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近端向前移位，可压迫或刺伤肱动、静脉和损伤正中神经，引起前臂缺血性肌挛缩造成爪形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并骨骺损伤者，以后可出现肘内翻畸形，但肘后三角关系正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合并血管、神经损伤，则出现桡动脉搏动减弱或消失，手部的感觉减弱和运动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的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患儿年龄、受伤和急救过程，患肢正常情况下的活动能力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手法复位小夹板或石膏外固定，维持屈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悬吊于胸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肿胀严重者，可先行尺骨鹰嘴牵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，待肿胀消失后再行手法复位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手法复位失败或合并神经、血管损伤者，宜行切开复位用加压螺钉或交叉钢针作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依从行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患儿年龄小、缺乏自我管理能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神经、血管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360" y="1125000"/>
            <a:ext cx="921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有无患侧桡动脉搏动减弱或消失，手部皮肤苍白、发凉、麻木，被动伸指疼痛等前臂缺血表现，早期发现前臂骨筋膜室综合征并及时处理。有无拇指对掌功能丧失，拇、示、中指末节屈曲功能丧失呈“猿手”状等正中神经损伤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360" y="1125000"/>
            <a:ext cx="921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尺骨鹰嘴骨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避免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进行手指和腕关节的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进行肩关节的活动，解除固定后进行肘关节的伸屈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三、桡骨远端伸直型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桡骨远端伸直型骨折指距桡骨下端关节面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 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范围内的伸直型骨折，以中老年人多见。多由间接暴力所致。受伤时腕部背伸手掌着地，又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，临床上多见，骨折远端向背侧及桡侧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1" name="Picture 2" descr="图38-9伸直型桡骨远端骨折（Colles骨折）畸形"/>
          <p:cNvPicPr/>
          <p:nvPr/>
        </p:nvPicPr>
        <p:blipFill>
          <a:blip r:embed="rId1"/>
          <a:stretch/>
        </p:blipFill>
        <p:spPr>
          <a:xfrm>
            <a:off x="1619280" y="1522440"/>
            <a:ext cx="6311880" cy="3887640"/>
          </a:xfrm>
          <a:prstGeom prst="rect">
            <a:avLst/>
          </a:prstGeom>
          <a:ln w="0">
            <a:noFill/>
          </a:ln>
        </p:spPr>
      </p:pic>
      <p:sp>
        <p:nvSpPr>
          <p:cNvPr id="302" name="矩形 4"/>
          <p:cNvSpPr/>
          <p:nvPr/>
        </p:nvSpPr>
        <p:spPr>
          <a:xfrm>
            <a:off x="2411280" y="537372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伸直型桡骨远端骨折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olle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）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腕关节疼痛、肿胀，活动障碍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典型畸形为侧面观呈“餐叉”畸形，正面观呈“枪刺刀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的部位、类型和移位方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1" descr="说明: 图21-1骨折的程度和形态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870120" y="1033560"/>
            <a:ext cx="6408720" cy="5022720"/>
          </a:xfrm>
          <a:prstGeom prst="rect">
            <a:avLst/>
          </a:prstGeom>
          <a:ln w="0">
            <a:noFill/>
          </a:ln>
        </p:spPr>
      </p:pic>
      <p:sp>
        <p:nvSpPr>
          <p:cNvPr id="125" name="矩形 4"/>
          <p:cNvSpPr/>
          <p:nvPr/>
        </p:nvSpPr>
        <p:spPr>
          <a:xfrm>
            <a:off x="3436200" y="60213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的程度和形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本病以老年女性多见，患者多在跌倒后双手掌着地造成骨折。评估患者年龄、性别，是否有骨质疏松病史，是否服用钙剂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本病患者多为中老年女性，多担心骨折会影响工作和做家务。年轻患者可能希望治疗达到解剖复位，以保持手腕部外形美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手法复位小夹板或石膏绷带固定，固定后进行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、进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周围神经、血管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手部肿胀、温度、感觉、运动等情况，必要时调整小夹板捆扎带或石膏的松紧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固定后，屈肘、前臂置于功能位，用悬吊带悬吊于胸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进行手指伸屈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可进行腕关节的背伸和桡侧偏斜活动及前臂旋转活动，解除固定后加强腕关节全活动范围锻炼。身体其他部位可正常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四、股骨颈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颈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femoral neck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常发生于老年人，以女性多见。主要因摔倒时扭转伤肢，暴力传导至股骨颈而引起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发生的部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头下骨折、经股骨颈骨折和股骨颈基底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收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远端骨折线与两侧髂嵴连线的夹角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uwell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角）大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属于不稳定骨折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展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uwell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角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属于稳定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2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前走路不慎摔倒，当时感觉右下肢剧痛，不能站起。入院时意识清楚，痛苦面容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右侧髋部有压痛，叩击足跟髋部疼痛加重，大转子明显突出，右下肢缩短、外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右侧股骨颈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髋部疼痛，移动患肢时疼痛加重，不敢站立或行走。外展骨折患者在伤后可能仍可行走，但数天后髋部疼痛加重甚至不能行走，常提示由稳定骨折变为了不稳定骨折。体检可见伤侧髋部有压痛，叩击足跟髋部疼痛，大转子明显突出。内收型骨折患者下肢呈内收、缩短、外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132" descr="说明: 图31-2 骨折段五种不同移位"/>
          <p:cNvPicPr/>
          <p:nvPr/>
        </p:nvPicPr>
        <p:blipFill>
          <a:blip r:embed="rId1"/>
          <a:srcRect l="0" t="0" r="0" b="12454"/>
          <a:stretch/>
        </p:blipFill>
        <p:spPr>
          <a:xfrm>
            <a:off x="971640" y="1773360"/>
            <a:ext cx="7483320" cy="3311280"/>
          </a:xfrm>
          <a:prstGeom prst="rect">
            <a:avLst/>
          </a:prstGeom>
          <a:ln w="0">
            <a:noFill/>
          </a:ln>
        </p:spPr>
      </p:pic>
      <p:sp>
        <p:nvSpPr>
          <p:cNvPr id="129" name="矩形 4"/>
          <p:cNvSpPr/>
          <p:nvPr/>
        </p:nvSpPr>
        <p:spPr>
          <a:xfrm>
            <a:off x="3485520" y="5219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段五种不同移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6" name="Picture 2" descr="图38-10  股骨颈骨折伤肢呈短缩和外旋畸形"/>
          <p:cNvPicPr/>
          <p:nvPr/>
        </p:nvPicPr>
        <p:blipFill>
          <a:blip r:embed="rId1"/>
          <a:stretch/>
        </p:blipFill>
        <p:spPr>
          <a:xfrm>
            <a:off x="2803680" y="1152360"/>
            <a:ext cx="3136680" cy="4437360"/>
          </a:xfrm>
          <a:prstGeom prst="rect">
            <a:avLst/>
          </a:prstGeom>
          <a:ln w="0">
            <a:noFill/>
          </a:ln>
        </p:spPr>
      </p:pic>
      <p:sp>
        <p:nvSpPr>
          <p:cNvPr id="337" name="矩形 4"/>
          <p:cNvSpPr/>
          <p:nvPr/>
        </p:nvSpPr>
        <p:spPr>
          <a:xfrm>
            <a:off x="3404520" y="56656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股骨颈骨折伤肢呈短缩和外旋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部位、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老年患者骨折时暴力不一定严重，但多有扭转伤力。评估患者受伤过程和急救措施，了解是否有骨质疏松，是否合并有心脏病、高血压、糖尿病等伴发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插或无移位的稳定性骨折，可行持续皮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移位或不稳定的骨折，可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监测下行经皮或切开加压螺纹钉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股骨头坏死或不愈合的骨折，应行人工股骨头置换或全髋关节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2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右股骨颈骨折，拟行手术复位内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术后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长期卧床造成肢体活动减少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与骨折后功能锻炼有关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床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五、股骨干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干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femoral shaf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股骨小转子以下、股骨髁以上部位的骨折，多见于青壮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由强大的直接或间接暴力造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容易发生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干不同部位骨折可引起不同的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" name="Picture 2" descr="图22-16股骨干不同部位骨折的移位情况"/>
          <p:cNvPicPr/>
          <p:nvPr/>
        </p:nvPicPr>
        <p:blipFill>
          <a:blip r:embed="rId1"/>
          <a:stretch/>
        </p:blipFill>
        <p:spPr>
          <a:xfrm>
            <a:off x="1757520" y="1268280"/>
            <a:ext cx="5495760" cy="3435480"/>
          </a:xfrm>
          <a:prstGeom prst="rect">
            <a:avLst/>
          </a:prstGeom>
          <a:ln w="0">
            <a:noFill/>
          </a:ln>
        </p:spPr>
      </p:pic>
      <p:sp>
        <p:nvSpPr>
          <p:cNvPr id="360" name="矩形 4"/>
          <p:cNvSpPr/>
          <p:nvPr/>
        </p:nvSpPr>
        <p:spPr>
          <a:xfrm>
            <a:off x="2627280" y="45007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                       B                          C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矩形 5"/>
          <p:cNvSpPr/>
          <p:nvPr/>
        </p:nvSpPr>
        <p:spPr>
          <a:xfrm>
            <a:off x="826920" y="4869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上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近段屈曲、外旋、外展；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B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中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移位与暴力方向有关；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下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远段向后移位，损伤腘、静脉和坐骨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矩形 6"/>
          <p:cNvSpPr/>
          <p:nvPr/>
        </p:nvSpPr>
        <p:spPr>
          <a:xfrm>
            <a:off x="3105720" y="57243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股骨干不同部位骨折的移位情况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大腿疼痛、肿胀、活动障碍，局部有畸形、反常活动、骨擦音或骨擦感，股骨干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可伴腘动静脉和坐骨神经损伤。损伤严重时可有失血性休克的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部位、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晨练时不慎跌倒，左手掌撑地后出现手腕部剧烈疼痛，局部肿胀、压痛，明显餐叉畸形。入院时意识清楚，面色苍白，痛苦面容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左侧桡骨远端伸直型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心、脑、肺、肾等重要脏器的合并损伤，有无其他部位骨折，有无贫血病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内儿童可采用垂直悬吊皮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成人可使用骨牵引复位和固定，也可采用切开复位髓内针、钢板螺丝钉或角状钢板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4" name="Picture 3" descr="说明: u=4069496630,4066120749&amp;fm=23&amp;gp=0"/>
          <p:cNvPicPr/>
          <p:nvPr/>
        </p:nvPicPr>
        <p:blipFill>
          <a:blip r:embed="rId1"/>
          <a:stretch/>
        </p:blipFill>
        <p:spPr>
          <a:xfrm>
            <a:off x="2411280" y="1268280"/>
            <a:ext cx="353232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牵引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血管损伤、失血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71640" y="2276640"/>
            <a:ext cx="6913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六、胫腓骨干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胫腓骨干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actures of shaft of tibia and fibul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发生于胫骨平台以下至踝上部分的骨折。多见于青壮年和儿童，为长骨骨折中最为多见的一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大多由直接暴力造成，因胫骨前内侧及腓骨下段都处于皮下表浅部位，故常呈开放性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腿肌肉丰富，骨折后可并发骨筋膜室综合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小腿疼痛、肿胀、压痛、功能障碍，局部有畸形、反常活动、骨擦音或骨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时可见刺破皮肤的骨折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并骨筋膜室综合征时，可出现急性神经、肌肉缺血的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部位、类型及移位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时的情况，急救措施以及可能影响骨折愈合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患者多为青壮年人，可能担心预后不良会影响行走和负重，也可能担心手术费用较高而经济压力较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横骨折和短斜骨折，可采用手法复位小夹板固定或石膏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稳定的长斜和螺旋骨折，可采用切开复位螺丝钉、交锁髓内钉或钢板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较为严重的开放性或粉碎性骨折，可用外固定支架复位和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表现：疼痛和压痛、肿胀或瘀斑、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专有体征：畸形、反常活动、骨擦音或骨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神经、血管损伤、伤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的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脊柱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spin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又称脊椎骨折，占全身骨折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脊柱骨折往往病情严重而复杂，常合并脊髓损伤，或马尾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绝大多数由间接暴力引起，少数由直接暴力所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局部疼痛、肿胀，脊柱活动受限，骨折处棘突明显压痛和叩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后突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、肠蠕动减弱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 了解受伤的时间、原因和部位，受伤时的体位，伤后急救、搬运和运送方式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椎疾病史 有无脊椎疾病史，如结核、肿瘤、腰椎间盘突出、腰椎管狭窄、颈椎病、腰椎骨折等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椎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者可用颌枕带卧位牵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明显压缩脱位者，采用持续颅骨牵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严重者应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、腰椎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纯压缩性骨折，椎体压缩不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者，应平卧硬板床，骨折部位垫厚枕使脊柱过伸，伤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逐渐进行腰背肌后伸锻炼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戴腰围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体压缩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后突畸形明显的青少年和中年受伤者，可采用两桌复位法或双踝悬吊复位法，随后行石膏背心固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复位后不稳定或关节交锁者，可行手术做治疗，做植骨和内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09:34Z</dcterms:modified>
  <cp:revision>123</cp:revision>
  <dc:subject/>
  <dc:title>内科护理学</dc:title>
</cp:coreProperties>
</file>